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24EC-86A2-414C-96E9-CD6BF7AD5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3C0C-909F-4696-9322-DADDC8141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448D-8936-4535-899B-E5EFCB52F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3A3A-BE5B-422A-998D-5D032F051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A856-860E-4E41-A3BA-6B002C4E9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B431-F305-4DC9-AD9D-57009ED311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9919-2FDC-4971-8DDB-A3B6AE2660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D5A3-6202-4F4B-9A53-AA73F88E49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5F16-1988-4607-93F7-BD4CA739BE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D9FA-70E9-42DC-B280-E658D23E11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5659-4DCC-49DD-86A9-FA00F0E0D6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7216-D2FF-4E39-A460-C557B095C1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7B78-0F84-4153-89E3-43710DA4E9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F6DC-049A-4F8B-A795-329D4CB6EF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18EA-2BF1-4009-96E9-800C4DA38D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CB86-A325-4DF8-97C8-DEA77EF8C6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53B2-F250-465D-AF3D-4D9CFC2205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1D32-0DC7-4EC1-B76F-A38B5A849B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E67-9EBA-4516-AB73-EE1D395EB9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515-7EF1-4561-9D79-E609AD52F6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750-F9EB-4CF4-8DA3-470DC5D2C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932B-E1B6-4582-B8DD-C86503ECC9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9BD-587C-4DB4-BBCD-1BC4BCC605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BFB-8C25-4506-93E2-929DCEA52F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6D5-F250-4ECD-8F4A-F269341E15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216-E215-48C4-97D5-A64C2CEF59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AE4-8835-4A80-967B-F0F3977813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B82-A4A7-4D84-894A-4B70C7080F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405-CD7B-4EE7-B1C8-D79F8CE2FD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EA5-7D2A-43F1-9A2E-637C2575D0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6C0-49C1-4461-83C9-F2C84280B10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8A379-12DA-4CF5-8B49-091CA0987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6011-4F2D-460D-A008-9616C4FADE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98C93-53B1-4322-8E88-57E8CCF7B9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D8125-985B-4CA0-8784-9CF9EFB71D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8278D-18AA-49F0-BA9F-4C4BCD43F6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6853C-39E5-472F-8B6F-545F3FF6B7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F2379-5714-4278-ACA5-0A3EDF7274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119AD-C452-4B4D-90EA-F9DCC4D00F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EB768-53AF-4053-87C1-5BDDC3E1EA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70DCD-F5FE-46A0-98BF-F6C8865A84E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F0599-08B7-4CA4-8352-88491238A1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BB521-4948-4B45-9E0F-03D5EDDF2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44F4-2A49-403F-B984-53548EEB1E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0EC32-23B6-4438-A958-E41E59C43A1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1222C-46B1-4AE9-AF79-AAD1A148EE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8378E-EAA4-494F-8FFE-FFA2100EC9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B1090-E86B-4709-97CE-AF6F4140C1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12271-5D77-4D7E-AE7F-3EE52181D49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8FB67-7709-48C5-B948-70A6BFA596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E1792-2F02-47B0-8C53-84D2D261F3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FD46-DDE5-47EC-A832-EC3DA3B838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FACD3-255C-48A0-B45B-315C6ED0AC9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33050-0ABE-4317-9D25-2F37DC605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6B38-8F4B-4671-929B-786978761A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5F29D-4B57-475B-A061-1995464F89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1B3CF-C202-4EA3-A583-B2B3EEED4A6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A1A2E-D4FE-4646-84A3-00B1EEAA8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6828-933A-47C7-BB47-2CC4B6583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BC27-1306-4CD4-8FCB-A03F97393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1FB9-15EB-4B69-A970-C0949BC45C5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7997-4886-4B86-89B4-91BF3CADD75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DA2E-E557-4A29-9AB3-9773F284BEC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28B4-F5F9-40FC-B522-2F321EB128D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ED14-E18A-4344-BD46-37CAC82022F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498132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990720" y="23619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last cell and press [Tab]. A blank record is ready for your entry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rag the resizing handle at the lower-right corner of a ta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e the Resize button           on the Table Tools Design tab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609480" y="1219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one of these methods to add a record to an Excel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4324320" y="3914640"/>
            <a:ext cx="1162080" cy="428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53352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37" name="Oval 8"/>
          <p:cNvSpPr/>
          <p:nvPr/>
        </p:nvSpPr>
        <p:spPr>
          <a:xfrm>
            <a:off x="4951440" y="4075200"/>
            <a:ext cx="409680" cy="214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Rectangle 2" descr=""/>
          <p:cNvPicPr/>
          <p:nvPr/>
        </p:nvPicPr>
        <p:blipFill>
          <a:blip r:embed="rId3"/>
          <a:stretch/>
        </p:blipFill>
        <p:spPr>
          <a:xfrm>
            <a:off x="884160" y="-6480"/>
            <a:ext cx="83203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"/>
          <p:cNvSpPr/>
          <p:nvPr/>
        </p:nvSpPr>
        <p:spPr>
          <a:xfrm>
            <a:off x="1447920" y="56386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uplicate rows have the same information in one or more columns. You can remove dupl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258920" y="1457280"/>
            <a:ext cx="6894360" cy="402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1" name="Oval 5"/>
          <p:cNvSpPr/>
          <p:nvPr/>
        </p:nvSpPr>
        <p:spPr>
          <a:xfrm>
            <a:off x="1676520" y="2946240"/>
            <a:ext cx="15238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9"/>
          <p:cNvSpPr/>
          <p:nvPr/>
        </p:nvSpPr>
        <p:spPr>
          <a:xfrm>
            <a:off x="1689120" y="5213520"/>
            <a:ext cx="1523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Rectangle 2" descr=""/>
          <p:cNvPicPr/>
          <p:nvPr/>
        </p:nvPicPr>
        <p:blipFill>
          <a:blip r:embed="rId2"/>
          <a:stretch/>
        </p:blipFill>
        <p:spPr>
          <a:xfrm>
            <a:off x="884160" y="-6480"/>
            <a:ext cx="83203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4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741640" cy="151128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9CC7-4300-4A35-9767-09F2A62EB96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0"/>
          <p:cNvSpPr/>
          <p:nvPr/>
        </p:nvSpPr>
        <p:spPr>
          <a:xfrm>
            <a:off x="1295280" y="1219320"/>
            <a:ext cx="701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ecords in a table can be sorted in ascending or descending order. The sort commands are available from the filter arrows in the header 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6754680" cy="3898800"/>
          </a:xfrm>
          <a:prstGeom prst="rect">
            <a:avLst/>
          </a:prstGeom>
          <a:ln w="0">
            <a:noFill/>
          </a:ln>
        </p:spPr>
      </p:pic>
      <p:sp>
        <p:nvSpPr>
          <p:cNvPr id="350" name="Oval 2"/>
          <p:cNvSpPr/>
          <p:nvPr/>
        </p:nvSpPr>
        <p:spPr>
          <a:xfrm>
            <a:off x="1447920" y="2521080"/>
            <a:ext cx="601560" cy="29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8"/>
          <p:cNvSpPr/>
          <p:nvPr/>
        </p:nvSpPr>
        <p:spPr>
          <a:xfrm>
            <a:off x="533520" y="143676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ultiple level sorts are set from the Sort dialog box. You can use up to 64 sorting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646360" y="1752480"/>
            <a:ext cx="6345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240" y="1904760"/>
            <a:ext cx="6705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filte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a criter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ilter hides rows that do not match the condition (criterion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ilter allows you to keep a large list but show only those records needed for a particular tas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4684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6"/>
          <p:cNvSpPr/>
          <p:nvPr/>
        </p:nvSpPr>
        <p:spPr>
          <a:xfrm>
            <a:off x="1143000" y="1295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the Filter arrow to show records for one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46840" cy="901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1224000" y="1905120"/>
            <a:ext cx="715788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6"/>
          <p:cNvSpPr/>
          <p:nvPr/>
        </p:nvSpPr>
        <p:spPr>
          <a:xfrm>
            <a:off x="457200" y="1841400"/>
            <a:ext cx="254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vailable filters depend on the data type. These are date fil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46840" cy="901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6119640" cy="437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6"/>
          <p:cNvSpPr/>
          <p:nvPr/>
        </p:nvSpPr>
        <p:spPr>
          <a:xfrm>
            <a:off x="1143000" y="541008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ustom filters allow you to choose operators and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46840" cy="90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716040" y="1676520"/>
            <a:ext cx="819936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6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208440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1ED4-80C1-4C18-82E0-33AC44EC2BE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468B-50EA-49A2-BB6B-1463C0221F6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6"/>
          <p:cNvSpPr/>
          <p:nvPr/>
        </p:nvSpPr>
        <p:spPr>
          <a:xfrm>
            <a:off x="853920" y="12952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structured referenc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a defined name that refers to a data range in an Excel table. Structured references are automatically generated when the table is forma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881840" cy="8463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1600200" y="2666880"/>
            <a:ext cx="6172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re is a structured reference for each label in the header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This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Total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6"/>
          <p:cNvSpPr/>
          <p:nvPr/>
        </p:nvSpPr>
        <p:spPr>
          <a:xfrm>
            <a:off x="1600200" y="1295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totals are shown in an Excel table, the SUBTOTAL function uses a structured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881840" cy="846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6324840" cy="404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1600200" y="1219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isplay trigger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see structured references in Formula AutoComplete is a left square bracket [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881840" cy="846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" descr=""/>
          <p:cNvPicPr/>
          <p:nvPr/>
        </p:nvPicPr>
        <p:blipFill>
          <a:blip r:embed="rId2"/>
          <a:stretch/>
        </p:blipFill>
        <p:spPr>
          <a:xfrm>
            <a:off x="1806480" y="2057400"/>
            <a:ext cx="5889600" cy="4251240"/>
          </a:xfrm>
          <a:prstGeom prst="rect">
            <a:avLst/>
          </a:prstGeom>
          <a:ln w="0">
            <a:noFill/>
          </a:ln>
        </p:spPr>
      </p:pic>
      <p:sp>
        <p:nvSpPr>
          <p:cNvPr id="377" name="Oval 2"/>
          <p:cNvSpPr/>
          <p:nvPr/>
        </p:nvSpPr>
        <p:spPr>
          <a:xfrm>
            <a:off x="6032520" y="549900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7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290920" cy="151128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F15-2C30-471F-B238-109519E86BB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1752480" y="12193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UNTIFS, in the Statistical function category, counts cells based on more than one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7729560" cy="41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1630440" y="121932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MIFS is in the Math &amp; Trig function categ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t sums fields using multiple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7010280" cy="41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6"/>
          <p:cNvSpPr/>
          <p:nvPr/>
        </p:nvSpPr>
        <p:spPr>
          <a:xfrm>
            <a:off x="914400" y="13302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TEXT function displays a value as a label. The value can be formatted like a label and is not used in calculations. The results for the function shown here is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May 26, 2012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, but with today’s d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1193760" y="2590920"/>
            <a:ext cx="7188120" cy="348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9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851440" cy="1511280"/>
          </a:xfrm>
          <a:prstGeom prst="rect">
            <a:avLst/>
          </a:prstGeom>
          <a:ln w="0">
            <a:noFill/>
          </a:ln>
        </p:spPr>
      </p:pic>
      <p:sp>
        <p:nvSpPr>
          <p:cNvPr id="39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ECD5-4026-4184-91E6-2F798B58AA8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957240" y="212760"/>
            <a:ext cx="8167680" cy="8049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6"/>
          <p:cNvSpPr/>
          <p:nvPr/>
        </p:nvSpPr>
        <p:spPr>
          <a:xfrm>
            <a:off x="1676520" y="121932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calculated column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 an Excel table has a formula. Table AutoExpansion extends a formula down the entire column when it is entered in the first 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" descr=""/>
          <p:cNvPicPr/>
          <p:nvPr/>
        </p:nvPicPr>
        <p:blipFill>
          <a:blip r:embed="rId2"/>
          <a:stretch/>
        </p:blipFill>
        <p:spPr>
          <a:xfrm>
            <a:off x="1384200" y="2362320"/>
            <a:ext cx="67690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5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1327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7"/>
          <p:cNvSpPr/>
          <p:nvPr/>
        </p:nvSpPr>
        <p:spPr>
          <a:xfrm>
            <a:off x="762120" y="1600200"/>
            <a:ext cx="8153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xcel table can be converted to a simple range of cells. The Convert to Range button is in the Tools group on the Table Tools Design t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 are some commands, such as custom views, that do not work in worksheets with t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4233960" y="318276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449600" cy="15112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D53-7252-4550-B749-29DBCF6BB37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40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958B-84E6-4CAD-95DC-F44F786CF93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905120" y="1752480"/>
            <a:ext cx="6705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print area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the range of cells to be prin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efault print area is the entir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et a range of cells as a print area and save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aved print area range is outlined with a dashed out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5918400" cy="443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7" name="TextBox 4"/>
          <p:cNvSpPr/>
          <p:nvPr/>
        </p:nvSpPr>
        <p:spPr>
          <a:xfrm>
            <a:off x="609480" y="1523880"/>
            <a:ext cx="2057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t is possible to select data on the worksheet and use the Settings command in Backstage view to print only that sele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44792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ustom view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set of print and display sett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ustom view can include column widths, gridline settings, window size and position, and mo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stom views can be named and sav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e view can be shown at a ti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Excel table is a list of data with a row of labels as titles, followed by any number of rows of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able has a single header row. Each column is a field; each row is a recor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an Excel table is selected, the Table Tools Design command tab is avail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Excel table is created from the Format as Table command in the Styles group on the Home tab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ble styles include light, medium, and dark color schem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ble style options include a header row, banded rows or columns, a total row, and emphasized first and last colum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able is automatically named, but you can assign a more descriptive na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creates structured references as names for the parts of a t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ble AutoExpansion aids in adding rows or columns to an Excel t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emove Duplicates command searches for and deletes data rows that are duplicates based on the fields that you specif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ort rows in an Excel table by single or multiple colum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rting can be ascending or descend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ilter displays only specified rows from a tabl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lter arrow lists are quick ways to choose which records should be show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alculated column in an Excel table includes a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UNTIFS and SUMIFS are functions that count and sum ranges based on multiple criteria. They are useful in large sets of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TEXT function displays a value (or date) as text. The value is not used in calculations and can be formatted with text attribut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et and save a print area that is different from the entir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rint selection is not saved. If you choose more than one selection, each prints on a separate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ustom view is a set of display and print choices for a workbook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name and save custom views with a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685800" y="12063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Excel tabl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a list of related information with a header row followed by data rows. It results from an Excel format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257480" y="2209680"/>
            <a:ext cx="712440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84400" y="2437920"/>
            <a:ext cx="750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ey field names or descriptive labels in the first row. This is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header row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 field names with a let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 not repeat field names in the header r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 not mix data types in a column. Do not enter values and text in the same colum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 not leave blank rows within the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609480" y="12952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prepare data for formatting as an Excel table, follow these guideli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214-Fig08-01.png"/>
          <p:cNvPicPr/>
          <p:nvPr/>
        </p:nvPicPr>
        <p:blipFill>
          <a:blip r:embed="rId2"/>
          <a:stretch/>
        </p:blipFill>
        <p:spPr>
          <a:xfrm>
            <a:off x="2795760" y="1797120"/>
            <a:ext cx="5914800" cy="42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1" name="Text Box 6"/>
          <p:cNvSpPr/>
          <p:nvPr/>
        </p:nvSpPr>
        <p:spPr>
          <a:xfrm>
            <a:off x="4330800" y="60958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Each column is a tabl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222800" y="173844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5154480" y="172404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>
            <a:off x="6303960" y="172404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888080" y="1351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Each column label is a field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14"/>
          <p:cNvCxnSpPr/>
          <p:nvPr/>
        </p:nvCxnSpPr>
        <p:spPr>
          <a:xfrm flipH="1" flipV="1">
            <a:off x="2716200" y="2638080"/>
            <a:ext cx="76680" cy="5342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17" name="Straight Arrow Connector 16"/>
          <p:cNvCxnSpPr/>
          <p:nvPr/>
        </p:nvCxnSpPr>
        <p:spPr>
          <a:xfrm flipV="1">
            <a:off x="4010400" y="2666520"/>
            <a:ext cx="305640" cy="457920"/>
          </a:xfrm>
          <a:prstGeom prst="straightConnector1">
            <a:avLst/>
          </a:prstGeom>
          <a:ln w="0">
            <a:noFill/>
          </a:ln>
        </p:spPr>
      </p:cxnSp>
      <p:sp>
        <p:nvSpPr>
          <p:cNvPr id="318" name="Text Box 8"/>
          <p:cNvSpPr/>
          <p:nvPr/>
        </p:nvSpPr>
        <p:spPr>
          <a:xfrm>
            <a:off x="746640" y="44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Each row is a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21"/>
          <p:cNvCxnSpPr/>
          <p:nvPr/>
        </p:nvCxnSpPr>
        <p:spPr>
          <a:xfrm flipH="1" flipV="1">
            <a:off x="3630240" y="4571640"/>
            <a:ext cx="381600" cy="2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20" name="Straight Arrow Connector 22"/>
          <p:cNvCxnSpPr/>
          <p:nvPr/>
        </p:nvCxnSpPr>
        <p:spPr>
          <a:xfrm flipH="1" flipV="1">
            <a:off x="3630240" y="4723560"/>
            <a:ext cx="381600" cy="25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21" name="Straight Arrow Connector 2"/>
          <p:cNvCxnSpPr/>
          <p:nvPr/>
        </p:nvCxnSpPr>
        <p:spPr>
          <a:xfrm>
            <a:off x="7238520" y="1676160"/>
            <a:ext cx="1080" cy="794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2" name="Straight Arrow Connector 17"/>
          <p:cNvCxnSpPr/>
          <p:nvPr/>
        </p:nvCxnSpPr>
        <p:spPr>
          <a:xfrm>
            <a:off x="6303600" y="1676160"/>
            <a:ext cx="1080" cy="794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3" name="Left Brace 18"/>
          <p:cNvSpPr/>
          <p:nvPr/>
        </p:nvSpPr>
        <p:spPr>
          <a:xfrm>
            <a:off x="2971800" y="4343400"/>
            <a:ext cx="457200" cy="533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533520"/>
              <a:gd name="textAreaBottom" fmla="*/ 5216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676520" y="19051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lect the cells and click the Format as Table button in the Styles group on the Home command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oose a style for the table from the Table Styles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erify the cell range and that the table has head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214-button128.tif"/>
          <p:cNvPicPr/>
          <p:nvPr/>
        </p:nvPicPr>
        <p:blipFill>
          <a:blip r:embed="rId2"/>
          <a:stretch/>
        </p:blipFill>
        <p:spPr>
          <a:xfrm>
            <a:off x="762120" y="1447920"/>
            <a:ext cx="685800" cy="68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2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27480" cy="198108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81F4-A001-4711-91DD-6343ACAE3E1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345520" cy="11588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6"/>
          <p:cNvSpPr/>
          <p:nvPr/>
        </p:nvSpPr>
        <p:spPr>
          <a:xfrm>
            <a:off x="1371600" y="36766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context-sensitive command tab opens when an Excel table is selected. You can choose a style, remove duplicates, resize the table, name it, and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685800" y="2228760"/>
            <a:ext cx="822960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9:09Z</dcterms:modified>
  <cp:revision>76</cp:revision>
  <dc:subject/>
  <dc:title>Microsoft office</dc:title>
</cp:coreProperties>
</file>